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F4F-C93E-48D2-B4C7-132F8E30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3B8-8D2E-4C12-B2D8-237353D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DC0-74E8-43F4-AAB5-2B472906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3DB-90F8-4FA2-8410-C0EB1A2D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3E3-B506-4170-8E79-EC4134BE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555-0D1B-4AC4-9724-166CBFC9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464-4C9F-46FA-A2C9-8EE82ED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E3F-1640-4DB2-9C15-B59DE9AA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4DC-546F-4E29-971D-32ED12E9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C16-25C3-4543-AC7E-8B9F94C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490-FD3D-4BED-B605-E906298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BDE-4933-4B37-9B72-C213AE9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CA6-57CC-44A7-9930-4BE0B6576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3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3240"/>
            <a:ext cx="6329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НАЛАЖЕЊЕ  ДОК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ИЗВОРИ ИНФОРМАЦ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hran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hrane database of systematic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f Abstracts of Reviews of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LINE, EM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hoo, Lycos, Google,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хранова библиот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држи систематске прегледне чланке који су већ обухватили и анализирали претходно публикова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и чланци су урађени по одговарајућој методологији, и може им се веров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ени апстракти су доступни беспл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ек прво тражимо одговор на наше питање у овој бази подат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е базе података такође садрже систематске прегледе највишег квалитета, као и Кохранова библиотека, али бесплатно нису доступни ни апстра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ТРАЖИВАЊЕ МЕДЛ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тезауру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специјални речник базе података, по коме су појмови индексира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Користити ограничавајуће факторе, ка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t) – publica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y) – publication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а сту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ористити и природне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а не налазимо адекватне студије помоћу тезауруса</a:t>
            </a:r>
            <a:r>
              <a:rPr b="0" lang="en-US" sz="2400" spc="-1" strike="noStrike">
                <a:solidFill>
                  <a:srgbClr val="000000"/>
                </a:solidFill>
                <a:latin typeface="YUDutchR"/>
              </a:rPr>
              <a:t>text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ding”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единачн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мина </a:t>
            </a:r>
            <a:r>
              <a:rPr b="0" lang="en-US" sz="2400" spc="-1" strike="noStrike">
                <a:solidFill>
                  <a:srgbClr val="000000"/>
                </a:solidFill>
                <a:latin typeface="YUDutchR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Тактика пре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у коришћену комбинацију речи забележити, као и пронађе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више израза за исти појам, нпр. народни и латински наз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опцију “повезани радов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третмани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d controlled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therap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apeutic use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про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lit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nosis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етиолог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s and ratio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and 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and control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дија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s (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t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41:51Z</dcterms:modified>
  <cp:revision>57</cp:revision>
  <dc:subject/>
  <dc:title>Slide 1</dc:title>
</cp:coreProperties>
</file>